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CAF8-9A90-4BFE-9D3E-4B025B1A1B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F4334-B539-460D-A298-DA70EE26A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19BD-864A-4DCD-A9CF-8914DAFE8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DF1A1-C2DC-4000-85DC-7B75A8501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A6949-18FB-444D-BC24-FD4FEBDC7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00A5-5BC0-4AF6-94AD-F89E8CFD93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70B71-EF6B-4F97-8FC1-830B634BF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A4CD-094F-4FCF-BDF0-7D0013E00B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79771-E135-4F73-A835-C812C1DBFF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5D36A-F1B3-40D1-A5FD-C332C8769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B19CC-049A-46A8-829F-7BBA2720B5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7CA78-D202-475D-A18E-EAAF4BEFFF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spcAft>
                <a:spcPts val="11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5D51C9F-4B72-4289-8906-120AE98CC8E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entatio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2-07-17T09:33:09Z</dcterms:created>
  <dc:creator/>
  <dc:description/>
  <dc:language>en-US</dc:language>
  <cp:lastModifiedBy/>
  <dcterms:modified xsi:type="dcterms:W3CDTF">2022-07-17T09:33:33Z</dcterms:modified>
  <cp:revision>1</cp:revision>
  <dc:subject/>
  <dc:title/>
</cp:coreProperties>
</file>